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AAE-D1E5-45C6-B3EB-50149834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B22-4631-4D90-857A-C6BB7D6D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B4E-9C48-4F82-B882-505AA3AA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0EC-0080-4FC2-958F-197320D6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2D5-DE3E-40AA-A6F1-F3D4703A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242-ABB4-4D38-9ADC-1CF00F3E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702-4A53-4794-B050-BACD2221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381-3509-4432-BA0F-E58A5DD8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098-0A6E-438B-83F8-BC54A42B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59C-35EC-48B8-884A-31F16DD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F1C-CCF7-45D7-AAC6-E56AE68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BF9-C3FD-475E-A1FC-1ED1708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E98C-C90E-4422-8A72-D40ECD7A9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333399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oudy Stout"/>
              </a:rPr>
              <a:t>La Ma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r Anna Ge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3341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00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asa. Es muy grande y b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330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la sala. Es muy moderna y incre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Comfortable and Nice Living Room Interior Design: Pretty comfortable Living Room Hill"/>
          <p:cNvPicPr/>
          <p:nvPr/>
        </p:nvPicPr>
        <p:blipFill>
          <a:blip r:embed="rId1"/>
          <a:stretch/>
        </p:blipFill>
        <p:spPr>
          <a:xfrm>
            <a:off x="1981080" y="3048120"/>
            <a:ext cx="51055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cuarto. Es muy bella, increible, y ma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56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33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cina. Es muy bella, increible, y estup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638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00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o. Es muy grande, bella, y estupen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6390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medo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medor. Es muy bonita, moderna, y fabulo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53337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66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De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uarto de juegos. Es muy increible, fabulosa, increible, y diver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562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cc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jardin. Es muy bonita y magni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5:07Z</dcterms:created>
  <dc:creator>getmanann</dc:creator>
  <dc:description/>
  <dc:language>en-US</dc:language>
  <cp:lastModifiedBy>getmanann</cp:lastModifiedBy>
  <dcterms:modified xsi:type="dcterms:W3CDTF">2013-04-04T15:54:19Z</dcterms:modified>
  <cp:revision>5</cp:revision>
  <dc:subject/>
  <dc:title>La Casa</dc:title>
</cp:coreProperties>
</file>